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CFD-D22C-464E-AFB0-6606B2B4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CC1-B3FA-40EE-89DD-EE15D7B4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267-F1C1-4B65-8B26-CE83E5A8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C449-AA04-4417-8C47-CB2AE5C6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5B62-9CAD-4259-9BB4-A2A93CD9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BDAA-8491-4B21-92EC-C72F2B87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7FFB-06D3-4BE6-8FBA-151CDE2C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8CB6-5FF1-46F6-9C18-3684BA76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70F2-64CD-44FA-97DC-33277B17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40DA-8CD8-4193-980A-CCD788F5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AF9C-D71A-4209-A012-EC321119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08B-C6CB-4FBE-A528-CC7BB111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63D6-3933-4E78-862B-410B62CE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9ECB-9B71-4667-828B-51C8334A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0D85-F628-4F13-85D1-25E88911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4574-B4D9-42DB-9E5A-CEE2848E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D51D-69E5-4516-8894-0569F720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5B6-A037-4ECC-A4D8-9E6E3BF1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CD6-57E0-4382-8AC2-3E125A73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BB5-FFAE-4D54-9322-721A13B3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32A-C264-42AC-98EB-0130857F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C66-67C0-4D6F-8AD7-CEA1DBC9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E0B-2C6D-4FDF-8F24-970DAA55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581-5BEA-4881-BECA-F2E15780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8986-54B8-48F3-A386-B8007FC740B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2EF2-12B1-4D60-AF5F-55EC9BB30E2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Tahoma"/>
              </a:rPr>
              <a:t>Причастие как часть речи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7636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Tahoma"/>
              </a:rPr>
              <a:t>Автор проек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Tahoma"/>
              </a:rPr>
              <a:t>Андрей Д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imes New Roman"/>
              </a:rPr>
              <a:t>Причастие — самостоятельная часть речи либо (в зависимости от точки зрения) особая форма глагола, которая обладает свойствами как глагола, так и имени прилагательного. Обозначает признак предмета по действию и отвечает на вопросы какой?, что делающий?, что делавший?, что сделавший?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88331"/>
          <p:cNvPicPr/>
          <p:nvPr/>
        </p:nvPicPr>
        <p:blipFill>
          <a:blip r:embed="rId1"/>
          <a:stretch/>
        </p:blipFill>
        <p:spPr>
          <a:xfrm>
            <a:off x="1332000" y="390600"/>
            <a:ext cx="6553080" cy="6091200"/>
          </a:xfrm>
          <a:prstGeom prst="rect">
            <a:avLst/>
          </a:prstGeom>
          <a:ln w="0">
            <a:noFill/>
          </a:ln>
        </p:spPr>
      </p:pic>
      <p:sp>
        <p:nvSpPr>
          <p:cNvPr id="102" name="Управляющая кнопка: назад 2"/>
          <p:cNvSpPr/>
          <p:nvPr/>
        </p:nvSpPr>
        <p:spPr>
          <a:xfrm>
            <a:off x="8358120" y="61437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Times New Roman"/>
              </a:rPr>
              <a:t>Каковы признаки причастия?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13481334"/>
          <p:cNvPicPr/>
          <p:nvPr/>
        </p:nvPicPr>
        <p:blipFill>
          <a:blip r:embed="rId1"/>
          <a:stretch/>
        </p:blipFill>
        <p:spPr>
          <a:xfrm>
            <a:off x="1692360" y="333360"/>
            <a:ext cx="52131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Times New Roman"/>
              </a:rPr>
              <a:t>Признаки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33cc33"/>
                </a:solidFill>
                <a:latin typeface="Times New Roman"/>
              </a:rPr>
              <a:t>причаст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2339640" y="1413000"/>
            <a:ext cx="1152360" cy="1008000"/>
          </a:xfrm>
          <a:prstGeom prst="line">
            <a:avLst/>
          </a:prstGeom>
          <a:ln w="63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5580000" y="1341360"/>
            <a:ext cx="1368360" cy="1079640"/>
          </a:xfrm>
          <a:prstGeom prst="line">
            <a:avLst/>
          </a:prstGeom>
          <a:ln w="63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869800" y="24940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Признаки глаг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973800" y="24940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Признаки глаг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1116000" y="2995560"/>
            <a:ext cx="285840" cy="6494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0" y="3573360"/>
            <a:ext cx="19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Время (настоящее и прошло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1979640" y="2997360"/>
            <a:ext cx="0" cy="1800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2050920" y="357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Вид (совершенный и несовершен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900000" y="4797360"/>
            <a:ext cx="22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Возвратная фор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2411280" y="2997360"/>
            <a:ext cx="432000" cy="6476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15"/>
          <p:cNvSpPr/>
          <p:nvPr/>
        </p:nvSpPr>
        <p:spPr>
          <a:xfrm flipH="1">
            <a:off x="5724360" y="2997360"/>
            <a:ext cx="214560" cy="576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4500720" y="3645000"/>
            <a:ext cx="266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Окончания прилагатель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7056360" y="3357720"/>
            <a:ext cx="20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зменяются по числам, родам и</a:t>
            </a:r>
            <a:r>
              <a:rPr b="0" lang="ru-RU" sz="1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падеж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7667640" y="2924280"/>
            <a:ext cx="217440" cy="576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4572000" y="1268280"/>
            <a:ext cx="0" cy="4537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7164360" y="2924280"/>
            <a:ext cx="0" cy="20174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932360" y="486900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В предложении чаще всего бывают определения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22"/>
          <p:cNvSpPr/>
          <p:nvPr/>
        </p:nvSpPr>
        <p:spPr>
          <a:xfrm rot="5400000">
            <a:off x="4212000" y="1411920"/>
            <a:ext cx="792360" cy="8569080"/>
          </a:xfrm>
          <a:custGeom>
            <a:avLst/>
            <a:gdLst>
              <a:gd name="textAreaLeft" fmla="*/ 0 w 792360"/>
              <a:gd name="textAreaRight" fmla="*/ 286200 w 792360"/>
              <a:gd name="textAreaTop" fmla="*/ 223200 h 8569080"/>
              <a:gd name="textAreaBottom" fmla="*/ 8345880 h 85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062520" y="616752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Признак по действ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Tahoma"/>
              </a:rPr>
              <a:t>Роль причастия в словосочетан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Line 24"/>
          <p:cNvSpPr/>
          <p:nvPr/>
        </p:nvSpPr>
        <p:spPr>
          <a:xfrm flipH="1">
            <a:off x="2268360" y="1844640"/>
            <a:ext cx="719280" cy="576360"/>
          </a:xfrm>
          <a:prstGeom prst="line">
            <a:avLst/>
          </a:prstGeom>
          <a:ln w="63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6156360" y="1773360"/>
            <a:ext cx="647640" cy="576000"/>
          </a:xfrm>
          <a:prstGeom prst="line">
            <a:avLst/>
          </a:prstGeom>
          <a:ln w="63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539640" y="3429000"/>
            <a:ext cx="38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Способность иметь при себе зависимое существительное или нареч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«прич. +сущ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«прич. +нар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Group 27"/>
          <p:cNvGrpSpPr/>
          <p:nvPr/>
        </p:nvGrpSpPr>
        <p:grpSpPr>
          <a:xfrm>
            <a:off x="1763640" y="5805360"/>
            <a:ext cx="287280" cy="216000"/>
            <a:chOff x="1763640" y="5805360"/>
            <a:chExt cx="287280" cy="216000"/>
          </a:xfrm>
        </p:grpSpPr>
        <p:sp>
          <p:nvSpPr>
            <p:cNvPr id="130" name="Line 28"/>
            <p:cNvSpPr/>
            <p:nvPr/>
          </p:nvSpPr>
          <p:spPr>
            <a:xfrm>
              <a:off x="1763640" y="5805360"/>
              <a:ext cx="287280" cy="2160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 flipH="1">
              <a:off x="1763640" y="5805360"/>
              <a:ext cx="287280" cy="2160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Group 30"/>
          <p:cNvGrpSpPr/>
          <p:nvPr/>
        </p:nvGrpSpPr>
        <p:grpSpPr>
          <a:xfrm>
            <a:off x="1763640" y="5084640"/>
            <a:ext cx="287280" cy="216000"/>
            <a:chOff x="1763640" y="5084640"/>
            <a:chExt cx="287280" cy="216000"/>
          </a:xfrm>
        </p:grpSpPr>
        <p:sp>
          <p:nvSpPr>
            <p:cNvPr id="133" name="Line 31"/>
            <p:cNvSpPr/>
            <p:nvPr/>
          </p:nvSpPr>
          <p:spPr>
            <a:xfrm>
              <a:off x="1763640" y="5084640"/>
              <a:ext cx="287280" cy="2160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32"/>
            <p:cNvSpPr/>
            <p:nvPr/>
          </p:nvSpPr>
          <p:spPr>
            <a:xfrm flipH="1">
              <a:off x="1763640" y="5084640"/>
              <a:ext cx="287280" cy="2160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Text Box 33"/>
          <p:cNvSpPr/>
          <p:nvPr/>
        </p:nvSpPr>
        <p:spPr>
          <a:xfrm>
            <a:off x="4716360" y="3376440"/>
            <a:ext cx="42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Зависят от существительного и согласуются с ним в роде, числе и падеже в словосочетаниях тип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972360" y="2492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Признаки глаг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35"/>
          <p:cNvSpPr/>
          <p:nvPr/>
        </p:nvSpPr>
        <p:spPr>
          <a:xfrm>
            <a:off x="2124000" y="2924280"/>
            <a:ext cx="0" cy="5047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36"/>
          <p:cNvSpPr/>
          <p:nvPr/>
        </p:nvSpPr>
        <p:spPr>
          <a:xfrm>
            <a:off x="7020000" y="2924280"/>
            <a:ext cx="0" cy="5047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5868720" y="249228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Признаки</a:t>
            </a:r>
            <a:r>
              <a:rPr b="0" lang="ru-RU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глаг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5724720" y="566100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«прич. +сущ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Group 39"/>
          <p:cNvGrpSpPr/>
          <p:nvPr/>
        </p:nvGrpSpPr>
        <p:grpSpPr>
          <a:xfrm>
            <a:off x="6156360" y="5445000"/>
            <a:ext cx="287280" cy="216000"/>
            <a:chOff x="6156360" y="5445000"/>
            <a:chExt cx="287280" cy="216000"/>
          </a:xfrm>
        </p:grpSpPr>
        <p:sp>
          <p:nvSpPr>
            <p:cNvPr id="142" name="Line 40"/>
            <p:cNvSpPr/>
            <p:nvPr/>
          </p:nvSpPr>
          <p:spPr>
            <a:xfrm>
              <a:off x="6156360" y="5445000"/>
              <a:ext cx="287280" cy="2160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41"/>
            <p:cNvSpPr/>
            <p:nvPr/>
          </p:nvSpPr>
          <p:spPr>
            <a:xfrm flipH="1">
              <a:off x="6156360" y="5445000"/>
              <a:ext cx="287280" cy="2160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111"/>
          <p:cNvPicPr/>
          <p:nvPr/>
        </p:nvPicPr>
        <p:blipFill>
          <a:blip r:embed="rId1"/>
          <a:stretch/>
        </p:blipFill>
        <p:spPr>
          <a:xfrm>
            <a:off x="1258920" y="189000"/>
            <a:ext cx="6664320" cy="6480000"/>
          </a:xfrm>
          <a:prstGeom prst="rect">
            <a:avLst/>
          </a:prstGeom>
          <a:ln w="0">
            <a:noFill/>
          </a:ln>
        </p:spPr>
      </p:pic>
      <p:sp>
        <p:nvSpPr>
          <p:cNvPr id="145" name="Управляющая кнопка: назад 2"/>
          <p:cNvSpPr/>
          <p:nvPr/>
        </p:nvSpPr>
        <p:spPr>
          <a:xfrm>
            <a:off x="8429760" y="61437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Times New Roman"/>
              </a:rPr>
              <a:t>В какой речи чаще употребляются причасти? Почему?</a:t>
            </a:r>
            <a:r>
              <a:rPr b="0" lang="ru-RU" sz="4000" spc="-1" strike="noStrike">
                <a:solidFill>
                  <a:srgbClr val="33cc33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lessonb"/>
          <p:cNvPicPr/>
          <p:nvPr/>
        </p:nvPicPr>
        <p:blipFill>
          <a:blip r:embed="rId1"/>
          <a:stretch/>
        </p:blipFill>
        <p:spPr>
          <a:xfrm>
            <a:off x="1476360" y="125280"/>
            <a:ext cx="648036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742680" y="620640"/>
            <a:ext cx="309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Times New Roman"/>
              </a:rPr>
              <a:t>Устная</a:t>
            </a: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33cc33"/>
                </a:solidFill>
                <a:latin typeface="Times New Roman"/>
              </a:rPr>
              <a:t>реч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50920" y="191628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Я увидел лошадь, которая бежала по мостово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571640" y="620640"/>
            <a:ext cx="429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Times New Roman"/>
              </a:rPr>
              <a:t>Письменная реч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008680" y="1916280"/>
            <a:ext cx="413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Я увидел лошадь, бегущую по мостов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2"/>
          <p:cNvSpPr/>
          <p:nvPr/>
        </p:nvSpPr>
        <p:spPr>
          <a:xfrm rot="5400000">
            <a:off x="3522600" y="-490320"/>
            <a:ext cx="1871640" cy="8415360"/>
          </a:xfrm>
          <a:custGeom>
            <a:avLst/>
            <a:gdLst>
              <a:gd name="textAreaLeft" fmla="*/ 0 w 1871640"/>
              <a:gd name="textAreaRight" fmla="*/ 675720 w 1871640"/>
              <a:gd name="textAreaTop" fmla="*/ 219240 h 8415360"/>
              <a:gd name="textAreaBottom" fmla="*/ 8196120 h 841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68360" y="4797360"/>
            <a:ext cx="73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Причастия чаще употребляются в письменной речи, т.к. служат для ее сокращения и придают тексту книжный стил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cc33"/>
                </a:solidFill>
                <a:latin typeface="Tahoma"/>
              </a:rPr>
              <a:t>На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33cc33"/>
                </a:solidFill>
                <a:latin typeface="Tahoma"/>
              </a:rPr>
              <a:t>какие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33cc33"/>
                </a:solidFill>
                <a:latin typeface="Tahoma"/>
              </a:rPr>
              <a:t>вопросы я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33cc33"/>
                </a:solidFill>
                <a:latin typeface="Tahoma"/>
              </a:rPr>
              <a:t>отвечу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 чем различие устной и письменной реч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Что такое причаст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Каковы признаки причаст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 какой речи чаще употребляются причастия?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5209"/>
          <p:cNvPicPr/>
          <p:nvPr/>
        </p:nvPicPr>
        <p:blipFill>
          <a:blip r:embed="rId1"/>
          <a:stretch/>
        </p:blipFill>
        <p:spPr>
          <a:xfrm>
            <a:off x="1332000" y="185760"/>
            <a:ext cx="7056360" cy="6531120"/>
          </a:xfrm>
          <a:prstGeom prst="rect">
            <a:avLst/>
          </a:prstGeom>
          <a:ln w="0">
            <a:noFill/>
          </a:ln>
        </p:spPr>
      </p:pic>
      <p:sp>
        <p:nvSpPr>
          <p:cNvPr id="155" name="Управляющая кнопка: назад 2"/>
          <p:cNvSpPr/>
          <p:nvPr/>
        </p:nvSpPr>
        <p:spPr>
          <a:xfrm>
            <a:off x="8501040" y="614376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12338"/>
                </a:moveTo>
                <a:lnTo>
                  <a:pt x="17806" y="5332"/>
                </a:lnTo>
                <a:lnTo>
                  <a:pt x="17806" y="19345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2571840"/>
            <a:ext cx="64008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пределение причас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Tahoma"/>
              </a:rPr>
              <a:t>Р.Н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cc33"/>
                </a:solidFill>
                <a:latin typeface="Tahoma"/>
              </a:rPr>
              <a:t>Бунеев,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cc33"/>
                </a:solidFill>
                <a:latin typeface="Tahoma"/>
              </a:rPr>
              <a:t>Е.В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cc33"/>
                </a:solidFill>
                <a:latin typeface="Tahoma"/>
              </a:rPr>
              <a:t>Бунеев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cc33"/>
                </a:solidFill>
                <a:latin typeface="Tahoma"/>
              </a:rPr>
              <a:t>Русский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cc33"/>
                </a:solidFill>
                <a:latin typeface="Tahoma"/>
              </a:rPr>
              <a:t>язык 6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cc33"/>
                </a:solidFill>
                <a:latin typeface="Tahoma"/>
              </a:rPr>
              <a:t>клас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Tahoma"/>
              </a:rPr>
              <a:t>Ресурсы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ervoklassnik"/>
          <p:cNvPicPr/>
          <p:nvPr/>
        </p:nvPicPr>
        <p:blipFill>
          <a:blip r:embed="rId1"/>
          <a:stretch/>
        </p:blipFill>
        <p:spPr>
          <a:xfrm>
            <a:off x="1692360" y="0"/>
            <a:ext cx="565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Tahoma"/>
              </a:rPr>
              <a:t>В чем различие устной и письменной речи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90565465"/>
          <p:cNvPicPr/>
          <p:nvPr/>
        </p:nvPicPr>
        <p:blipFill>
          <a:blip r:embed="rId1"/>
          <a:stretch/>
        </p:blipFill>
        <p:spPr>
          <a:xfrm>
            <a:off x="395280" y="419040"/>
            <a:ext cx="828036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Times New Roman"/>
              </a:rPr>
              <a:t>В отличии от устной письменная речь более точная, предложения полные, ясные; предложения в письменной речи логично связаны между собой.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ar121660244955973"/>
          <p:cNvPicPr/>
          <p:nvPr/>
        </p:nvPicPr>
        <p:blipFill>
          <a:blip r:embed="rId1"/>
          <a:stretch/>
        </p:blipFill>
        <p:spPr>
          <a:xfrm>
            <a:off x="1403280" y="333360"/>
            <a:ext cx="6265800" cy="6524640"/>
          </a:xfrm>
          <a:prstGeom prst="rect">
            <a:avLst/>
          </a:prstGeom>
          <a:ln w="0">
            <a:noFill/>
          </a:ln>
        </p:spPr>
      </p:pic>
      <p:sp>
        <p:nvSpPr>
          <p:cNvPr id="97" name="Управляющая кнопка: назад 2"/>
          <p:cNvSpPr/>
          <p:nvPr/>
        </p:nvSpPr>
        <p:spPr>
          <a:xfrm>
            <a:off x="8358120" y="607212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Times New Roman"/>
              </a:rPr>
              <a:t>Что</a:t>
            </a:r>
            <a:r>
              <a:rPr b="0" lang="ru-RU" sz="6000" spc="-1" strike="noStrike">
                <a:solidFill>
                  <a:srgbClr val="33cc33"/>
                </a:solidFill>
                <a:latin typeface="Tahoma"/>
              </a:rPr>
              <a:t> такое причастие?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student"/>
          <p:cNvPicPr/>
          <p:nvPr/>
        </p:nvPicPr>
        <p:blipFill>
          <a:blip r:embed="rId1"/>
          <a:stretch/>
        </p:blipFill>
        <p:spPr>
          <a:xfrm>
            <a:off x="1258920" y="189000"/>
            <a:ext cx="7128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5:13:24Z</dcterms:created>
  <dc:creator>Алан</dc:creator>
  <dc:description/>
  <dc:language>en-US</dc:language>
  <cp:lastModifiedBy>студент</cp:lastModifiedBy>
  <dcterms:modified xsi:type="dcterms:W3CDTF">2011-04-13T05:20:57Z</dcterms:modified>
  <cp:revision>14</cp:revision>
  <dc:subject/>
  <dc:title>Причастие как часть реч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